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7832-AF05-42A3-A568-124C0791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opmanscience.pbworks.com/w/page/36329924/Placement%20of%20the%20human%20body%20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cardio2/circui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irculatory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3/06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singaporeanbiologist.wordpress.com/2011/10/10/the-structure-and-composition-of-bloo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187-72FB-4C35-82E8-A402FA0E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F9B-5B8B-4D2C-A910-DF98E819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22A-81FE-4D33-A192-C394C9A7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CBB-9E37-4D78-9F24-63EE24A3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EB7-3005-4EA0-9B17-BACCF8A2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5BB-4B80-45C3-A06C-C93D3FA4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BE2-A7DB-4F71-9F55-3B88C31E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672-4BE2-4A29-968B-49A229B7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C9C-B81E-4036-9805-B0B5345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0E2-35A1-4220-9EE3-FA6DAAB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C14-AB4D-4616-B83E-2131EBC7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F56-9975-4FE8-A63A-82E9B3E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EA38-BC31-490F-BB18-EA19BC2E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7wrBvyp4jQ" TargetMode="External"/><Relationship Id="rId2" Type="http://schemas.openxmlformats.org/officeDocument/2006/relationships/hyperlink" Target="http://www.youtube.com/watch?v=K4lGDFvYaCQ&amp;playnext=1&amp;list=PLQ-W-P3Fghv8ddxYMd39bKOYedg-POtWv&amp;feature=results_mai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9 &amp; 3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57wrBvyp4j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School B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K4lGDFvYaCQ&amp;playnext=1&amp;list=PLQ-W-P3Fghv8ddxYMd39bKOYedg-POtWv&amp;feature=results_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440" y="609480"/>
            <a:ext cx="609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ation of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on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of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enance of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tion of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6840" y="609480"/>
            <a:ext cx="480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b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undle of nerves that acts as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asses nerve impulses to ventricles (causing them to contr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b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elaxation of the heart, when the chambers of the heart fill with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ntraction of the ventricles, when blood is pushed out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31840" y="3200400"/>
            <a:ext cx="500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%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%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%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7:00:14Z</dcterms:created>
  <dc:creator>rubina khan</dc:creator>
  <dc:description/>
  <dc:language>en-US</dc:language>
  <cp:lastModifiedBy>rubina khan</cp:lastModifiedBy>
  <dcterms:modified xsi:type="dcterms:W3CDTF">2012-11-27T17:33:48Z</dcterms:modified>
  <cp:revision>58</cp:revision>
  <dc:subject/>
  <dc:title>The Digestive System</dc:title>
</cp:coreProperties>
</file>